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E83-9823-4EAB-8569-510F37B0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AD0-B34D-4C1D-99DA-31BA31AD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FEF-D1B9-40A3-8FBC-2AD81715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8AE-5FF6-41F5-8231-BD93C59B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5BD-A3E7-49F1-8F6A-04D9F310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0C2-FB60-4F6F-805A-4A6CC86F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7CC-77CB-4F74-BDFC-F2669D88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621D-5601-4245-870F-5A318F65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4D2-43C2-4F45-91A4-1C7E6B41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1CD-E5BF-482F-A0F5-C100B6B1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6F5-6374-40D3-AB0A-35714BA2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501-21A9-4816-ADEF-FE2F83C1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9B6A-D611-49B0-A7F4-1D3AC29F2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m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mom I love you very much love 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l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4876920"/>
            <a:ext cx="852480" cy="909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19520" y="3657600"/>
            <a:ext cx="1785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48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nice you 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you are very nice and sweet I love you love Chl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62520" y="3352680"/>
            <a:ext cx="16318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7:38:47Z</dcterms:created>
  <dc:creator>student</dc:creator>
  <dc:description/>
  <dc:language>en-US</dc:language>
  <cp:lastModifiedBy>student</cp:lastModifiedBy>
  <dcterms:modified xsi:type="dcterms:W3CDTF">2010-10-14T18:05:16Z</dcterms:modified>
  <cp:revision>2</cp:revision>
  <dc:subject/>
  <dc:title>Chloe</dc:title>
</cp:coreProperties>
</file>